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990-A571-4443-A9DE-8BA22DC6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ED8-ABF3-459F-87CA-F5DFDE5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376-8B47-4674-BB3F-6DAEA074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ECE-251E-4C1A-96C6-DC881AB6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4A1-AFF2-4A85-ACE1-67B4E18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5CE-6025-42E1-9832-12944D23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36D-A0F2-4C76-8B18-F395DCF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023-8609-40B8-9489-BBB34F4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860-8096-4378-AEE1-DB0C83B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131-CDCE-485C-81B2-DE09A0D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E25-E6AB-463C-B06C-2BA776F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DEC-709B-4250-91DA-E19A794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DFFF-514E-4F3A-A37D-FB79F838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341360"/>
            <a:ext cx="56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Arial"/>
              </a:rPr>
              <a:t>Зачем комару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708280"/>
            <a:ext cx="734544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>
                    <a:alpha val="90000"/>
                  </a:srgbClr>
                </a:solidFill>
                <a:latin typeface="Arial Narrow"/>
              </a:rPr>
              <a:t>пить кровь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>
                  <a:alpha val="90000"/>
                </a:srgbClr>
              </a:solidFill>
              <a:latin typeface="Arial Narrow"/>
              <a:ea typeface="Arial Narrow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890800" cy="4213440"/>
          </a:xfrm>
          <a:prstGeom prst="rect">
            <a:avLst/>
          </a:prstGeom>
          <a:ln w="0">
            <a:noFill/>
          </a:ln>
        </p:spPr>
      </p:pic>
    </p:spTree>
  </p:cSld>
  <p:transition advTm="0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омара от немалярий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яри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,не имеют дыхательной труб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тличить малярийного комара от немалярий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аляри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вырастающую наискось на конце брюшка, а их тело образует с поверхностью воды всегда остр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70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химических препаратов, отпугивающих насекомых -  репеллентов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43512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Как лучше защититься от кома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Impact"/>
              </a:rPr>
              <a:t>Вопрос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отличить малярийного комара от немалярий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Зачем комару пить кров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 (так же могут пить сок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орые богаты углеводами, необходимые для актив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24360" y="3357720"/>
            <a:ext cx="2649600" cy="266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2564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53080" y="184464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, усваивают пищу и ждут, когда созреют яички. А потом ищут удобное место для откладки 200 — 300 я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(У самцов они такой же длины, как и хоботок, или  чуть больше, причем чаще последний их членик имеет колбовидную форму и густо покрыт волосками., что связано с добычей пищ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p:transition advTm="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, могут переда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ую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у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ую лихор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ую лихор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67200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Мася</cp:lastModifiedBy>
  <dcterms:modified xsi:type="dcterms:W3CDTF">2009-11-29T18:04:33Z</dcterms:modified>
  <cp:revision>14</cp:revision>
  <dc:subject/>
  <dc:title>Слайд 1</dc:title>
</cp:coreProperties>
</file>